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6E7-7239-4CE7-9F39-67F479D8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364-DE61-4735-99D8-3D3D22F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78F-8222-42B3-806D-CCD5C0E9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7D2-7145-4A18-BB5F-C620FC64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2BEC-D530-4328-86C8-7DD577F5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007-C73F-4C09-96BC-1A35833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450D-F824-4342-A572-0CC4FF2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7565-068D-455A-A620-97CED662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B6D0-20BD-4517-B31D-E5F0E398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92D-BA5A-4202-B1A0-04183625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03D-F1B0-401D-A70C-89A4B22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66B-4DE8-4E29-AD65-3C401A9C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A0F-FF0F-493E-97CB-1F9E7B7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EED-9FD4-4AB1-B1FE-8ECD6F4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A448-0C18-4ADC-9957-A3F8DAF4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8A1C-8B00-4696-8222-83CE953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E1B-DC66-4271-8374-0E691503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312-F954-4B1D-995C-B2813BCC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A6D-7B6C-40F9-A9AF-C811B213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B3C-6BD0-40D3-9FD0-FA63EF8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30C-758D-4F10-8A88-A2A3152F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EB5-FC1F-492A-A8E5-C3EA7EC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AB2-19BF-4B65-9CFD-7043BCB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7E1-3CE2-403C-B99F-FD1006B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324480" y="609588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878-549E-4687-9FE5-5A4CE67CDCF4}" type="slidenum"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77120" y="6100920"/>
            <a:ext cx="225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956-C515-489F-BF09-128924F3E778}" type="slidenum"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Autism spectrum disorders: are we there ye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opher Gillberg, MD, P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berra October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Herpes encepha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ffects temporofrontal areas more often than other brain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an lead to classic symptoms of autism even in previously unaffected individuals who are 14 and 31 year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1986, Gillberg IC 1991, Ghaziuddin et al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halidomide embry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attern of eye-abnormalities (including Crocodile-tears) and limb anomalies in those with autim dates the autism to 20-24 days post-co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5% have classic autism (with or without M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trömland et al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Psychiatric ”co-morbidity”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ADHD/HK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part of autism in early lif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Tics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complex similar to stereotypie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OC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part of the triad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Anxiety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strong environmental facto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Depress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Bipolar disord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elective muti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Most with AS will meet criteria for </a:t>
            </a: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personaliy disorder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inappropriate to diagnose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Eating disorders (including anorexia nervosa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leep disord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Gillberg &amp; Billstedt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3%: core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10-20%: spectrum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60-9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Non-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0-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ll of these findings refer to probands with autism proper, not spectrum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Rutter 2002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creased rates of affective disorders (including bipolar), social phobia, obsessive-compulsive phenomena, and ”broader phenotype sympt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 also show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possibly increased rates of learning disorders including MR, dyslexia and S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at about ADHD? Tic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s on certain chromosomes (e.g. 2, 6, 7, 16, 17, 18, 22, and X) may be important (genome scan studies of sib-pai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linical findings in particular syndromes such as partial tetrasomy 15 (15q), Angelman (15q), tuberous sclerosis (9q, 16p), fragile X (X), Rett syndrome (X), Turner syndrome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Betancur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Neuroligin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genes on X-chromosome mutated in some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Neuroligin genes on other chromosomes, including chromosome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Other neurodevelopmental gene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according to microarray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Jamain, Bourgeron, Leboyer, Gillberg et al 2003, Laumonnier et al 2004, Chi et al 2004, Larsson, et al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linical find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: macrocephalus comm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quired brain lesion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implicate fronto-temporal and bilateral dysfunction in core syndrome; right or left dysfunction in spectrum dis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 dat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uggest: amygdala, pons and cerebellu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ayley et al 1997, Bauman 1988, Gillberg &amp; Coleman 2000, Gillberg &amp; deSouza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rainst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amage suggest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lidom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ebius syndrome, CHARGE association, and Goldenhar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tory brainstem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rease in/lack of postrotatory nystagm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errant muscle tone and concomitant squ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rnitz &amp; Ritvo 1967, Ornitz 1977, Strömland, Gillberg et al 1994, Gillberg &amp; Steffenburg 1997, Gillberg &amp; Coleman 2000, Rosenhall, Gillberg et al 2003, Johansson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erebellar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dysfunction suggested b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mag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lationship to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taxi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rchesne 1988, Bauman et al 1992, Bayley et al 1999, Oldfors, Gillberg et al 2000, Weidenheim, Rapin, Gillberg et al 2001, Åhsgren, Gillberg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Christopher Gillberg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or of Child and Adolescent Psychia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öteborg (Queen Silvia´s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London (St George´s Hospital Medical Scho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lasgow (Yorkhill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Bergen (Haukeland sygeh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ontotempo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rain dysfunction suggest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opsy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psychologic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bined neuropsychological-neuro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nical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uropsychological studies s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representation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 reading of facial expre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/unusual fac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verbal learning disability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al learning disability in 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ive function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al coherenc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(complex) learning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erior fact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zonoff 1994, Happé 1994, Nydén et al 2000, Baron-Cohen et al 2002, 2003, Minshew 2003, Frith 2004, Cederlund &amp; Gillberg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 least four biological variants of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rly brainstem/cerebellar associated with severe secondary problems (and low-functioning autism with little or no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trimester bitemporal lobe damage (and classic autism with some-considerabl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- or bilateral frontotemporal dysfunction in high-functioning individuals (with Asperger syndrome with good formal expressiv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-damage autism (autism with severe- profound MR and some atypica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2003 (Rutter lectur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kely tha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veral functional neural loops are  implic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d that all impinge on neurocognitive/social cognitive functions that are crucially (but possibly not specifically) impaired in aut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9966"/>
                </a:solidFill>
                <a:latin typeface="Arial"/>
              </a:rPr>
              <a:t>Psychopharmacology of autism</a:t>
            </a:r>
            <a:endParaRPr b="0" lang="en-US" sz="4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Dopamin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erotoni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in MR also) (Coleman 197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Noradrenalin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66"/>
                </a:solidFill>
                <a:latin typeface="Arial"/>
              </a:rPr>
              <a:t>Neuroligins</a:t>
            </a:r>
            <a:r>
              <a:rPr b="0" lang="en-GB" sz="1600" spc="-1" strike="noStrike">
                <a:solidFill>
                  <a:srgbClr val="ff9966"/>
                </a:solidFill>
                <a:latin typeface="Arial"/>
              </a:rPr>
              <a:t> (Jamain et al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33"/>
                </a:solidFill>
                <a:latin typeface="Arial"/>
              </a:rPr>
              <a:t>GFA-protein</a:t>
            </a:r>
            <a:r>
              <a:rPr b="0" lang="en-GB" sz="1600" spc="-1" strike="noStrike">
                <a:solidFill>
                  <a:srgbClr val="ff9933"/>
                </a:solidFill>
                <a:latin typeface="Arial"/>
              </a:rPr>
              <a:t> (Ahlsén et al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angliosid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Nordin et al 19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ndorphin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lycine, GABA, Ach, glutama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mune syste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Plioplys 198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9966"/>
                </a:solidFill>
                <a:latin typeface="Arial"/>
              </a:rPr>
              <a:t>Clinical psychopharmacology of autism</a:t>
            </a:r>
            <a:endParaRPr b="0" lang="en-US" sz="33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Only dopamine antagonists (</a:t>
            </a:r>
            <a:r>
              <a:rPr b="0" lang="sv-SE" sz="2600" spc="-1" strike="noStrike">
                <a:solidFill>
                  <a:srgbClr val="ff0000"/>
                </a:solidFill>
                <a:latin typeface="Arial"/>
              </a:rPr>
              <a:t>old and new neuro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) have been shown to affect some core symptoms of autism in young children; however, important side-effects, including atypical weight-gain with risperidone; these agents are particularly helpful for irritable-disruptive and self-injurious behavio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9933"/>
                </a:solidFill>
                <a:latin typeface="Arial"/>
              </a:rPr>
              <a:t>SRI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OCS and anxie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Stimulant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ADH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Antiepi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epilepsy (and mood swings?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Peptides?? And peptide-targeted drug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Campbell et al 1976, van Buitelaar 2000, McCracken et al 2002, Lindsay &amp; Aman 2003, Martin et al 2004, McDougl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pathogenetic chai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environmental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insul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Damage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hemical dysfun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ognitive and social cognitive functions restricted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(procedural learning, face processing, metarepresentations, central coherence, executive functio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”syndrome” (or, sometimes, the ”arbitrary” symptom constellation) of aut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dyad (not triad) of social/communication impairment plus the monad of restricted behaviour pattern as a frequent concomitant? or three monads with frequent co-existenc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social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psychosocial disadvantage; however, “pseudoautism” described in children exposed to extreme psychosocial depr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ly restricted major improvement in good psychoeducational s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migration links? Indirect link with genetic fact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normal child triggers unus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arents have autism spectrum disorders themselves - not necessarily a major problem in all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, violent behaviours, self-injury and hyperactivity reduced in “autism-friendly”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l people are individuals first and foremost; at least as true in autism as in “neurotypicality”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ople WITH autism; not autistic peop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in the autism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changing environmen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ster adaptive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utism spectrum disorder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tic concepts and clinical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revalence/incidence/epidem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cquired brain lesions and ”comorbid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ere in the brain is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sychosocial inte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known underlying disorder: treat th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and be aware of syndrome-specific symptoms such as gaze avoidance in fragile 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epilepsy: treat this (however, there are major caveats he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hearing, vision, or motor impaired: treat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important psychiatric co-existing problems (SIB, ADHD, OCS, bipolar): threat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al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biological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edication for many; autism “per se” not an agreed target for medication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ypical neuroleptics (violence, self-injury, sleep problems, hyperacti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iepileptics (seizures, epileptogenic discharge?, bipo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SRIs (OCS, de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mulants (ADH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thium (and other drugs) for 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ed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ets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al exercise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nsory awareness” environment (reduce noise, certain sounds, smell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utism-friendly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crete, visual (not always), straight-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nimize ambiguities and symbolic interpre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or in low- and middle-functioning cases with AD, but quality of life very variable even in cases with “poor”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, but not always good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 with early diagnos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llberg 1991, Nordin &amp; Gillberg 1996, Billstedt et al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guage at age 3 = likely later Asperger phenoty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language at age 7 = likely never much spoke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jority probably live to be old, but increased mortality in subgroup (with medical disorders only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problems remain, albeit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 rate of “secondary” psychiatric problems (personality disorder, affective, social, catatonia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zatmari 2003, Billstedt et al 2004, Cederlund et al 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knowledge (including genetic and neurophysiological) and treatment for sub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diagnostic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/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ptance and attitude chang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eople with autis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not autists or autistic people! Cannot be stressed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with functional disabiliti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Litera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&amp; Coleman M (2000) The Biology of the Autistic Syndromes, Third Edition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(2002) A Guide to Asperger Syndrome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300 PubMed scientific papers at www.ncbi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Diagnostic concepts and clinical presen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t least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ff9966"/>
                </a:solidFill>
                <a:latin typeface="Arial"/>
              </a:rPr>
              <a:t>clinical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presentations of autism (autism/autistic spectrum disorder) plus ”one” non-clinic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1. Autistic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Kanner syndrome) which can be subdivided into ”low-functioning” (”Wing´s triad with severe learning disability/MR”) and ”relatively high-functioning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2. Asperger’s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sperger syndrom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3. Childhood disintegrative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Heller syndrome) - different from ”late onset autism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4. PDD NOS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typical autism, other autistic-like condition, other autism spectrum disorde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(5. The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broader autism phenotype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) (lesser variant, shadow syndrome, autistic featutr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Prevalence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uch higher than believed in the past: ASD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% of popul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AD in 0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any studies of prevalence, very few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no good evidence that overall rates have soa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but subgroup variation likely (e.g. ”premature autism” has gone up, ”rubella autism” dow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ASD was always quite common? - 0.7% already in the 1970s in Sw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</a:rPr>
              <a:t>Gillberg 1983, Gillberg &amp; Wing 1999, Fombonne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ntal retard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5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80% in autistic disorder/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epileps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5-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3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dical disorder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2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ewed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ale:female ratio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2-4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visual, hearing and motor impairments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including at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Sibling rate raised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; identical twin rate much raised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classic autism</a:t>
            </a:r>
            <a:r>
              <a:rPr b="0" lang="sv-SE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00"/>
                </a:solidFill>
                <a:latin typeface="Arial"/>
              </a:rPr>
              <a:t>Rutter 1971, Wing 1981, Gillberg 1983, Gillberg &amp; Coleman 1996, Gillberg 1999, Fombonne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”</a:t>
            </a: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Acquired” brain lesions and co-existing disorders (”medical co-morbidity”)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uberous sclerosis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Fragile X syndrome, Parti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trasomy 15, Down syndrome, XYY, XO, Hypomelanosis of Ito, Rett complex variants, Angelman syndrome, Williams syndrome, CHARGE association, Smith-Magenis syndrome, Smith-Lemli-Opitz syndrome, CATCH 22, Fetal alcohol syndrome, Retinopathy of prematurit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halidomid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embryopathy, Valproic syndrome, Moebi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drom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Silver-Russell syndrome, (Landau-Kleffner syndrome)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Herpes and rubell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Known medical disorder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25% in autistic disorder ”proper” (unselected samples) and 2-10%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se are either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their own right, affect autism susceptibility gene areas, or cause brain lesions through direct/indirect in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re- and perinatal risk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uberous sclerosi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3-9% of all autism cases, more common in those with epileps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chromosome 16p involved in one variant (autism susceptibility genetic area? ADHD susceptibility genetic ar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dopamine genes on chromosome 9 affected in other TS var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utism likely if TS lesions in temporofrontal regions and if there are many le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et al 1996, Bolton et al 19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4:57:40Z</dcterms:created>
  <dc:creator>Christopher Gillberg</dc:creator>
  <dc:description/>
  <dc:language>en-US</dc:language>
  <cp:lastModifiedBy>NEC Computers International</cp:lastModifiedBy>
  <dcterms:modified xsi:type="dcterms:W3CDTF">2004-10-01T21:57:20Z</dcterms:modified>
  <cp:revision>22</cp:revision>
  <dc:subject/>
  <dc:title>Neurobiology of aut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4369458</vt:r8>
  </property>
  <property fmtid="{D5CDD505-2E9C-101B-9397-08002B2CF9AE}" pid="3" name="_AuthorEmail">
    <vt:lpwstr>jimrox@netspeed.com.au</vt:lpwstr>
  </property>
  <property fmtid="{D5CDD505-2E9C-101B-9397-08002B2CF9AE}" pid="4" name="_AuthorEmailDisplayName">
    <vt:lpwstr>Jim &amp; Roxanne Coghlan</vt:lpwstr>
  </property>
  <property fmtid="{D5CDD505-2E9C-101B-9397-08002B2CF9AE}" pid="5" name="_EmailSubject">
    <vt:lpwstr>Prof Gillberg Presentation</vt:lpwstr>
  </property>
</Properties>
</file>