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755-1813-4EF8-B469-63D848BA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E12-6E2A-4664-A849-B8F2B412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8E2-97C0-45BF-97F6-B64B4353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C9C-0812-46CD-B981-A473087C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012C-0E20-4766-9504-99851A77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FFF0-45CA-4DEB-B773-8E1E9262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ED0F-26A9-4D3D-BB73-26639FC7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A6DE-7FC2-46CB-B6DF-C5B3168C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C9FC-799B-45FE-B245-4C5A2655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81ED-9EE0-4C2A-A00F-77780A0E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5BF3-2C7B-476B-86E4-F4D5B6EF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10D-4803-4A13-8B30-B602C164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1B16-C824-4B9A-8DE8-4FEF914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4A38-8CC5-4C24-B5FA-AFA2436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B41A-3C13-48BE-92C3-2521213A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79F9-EE3A-46BF-9757-80F8122F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A187-5FB2-4F27-BC34-4A635FD7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38A-6D3E-4E17-8E85-13E78CC2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616-ADD3-423E-8200-A14890CC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14C-DC72-4E39-9D63-0FF937BC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8E2-790E-4B0D-B77F-7DFA18F2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CDD-3FFE-4B2A-9699-41DE81F9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51F-218B-474B-B8BE-C8AFB80C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AEF-9031-4AF9-AE37-034EAF1C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324480" y="609588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17E-5855-4C2F-A931-F7A953E1F91B}" type="slidenum"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477120" y="6100920"/>
            <a:ext cx="2257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DA09-A6BB-4200-9187-BED87D247CCF}" type="slidenum"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Autism spectrum disorders: are we there ye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ristopher Gillberg, MD, P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berra October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Herpes encepha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ffects temporofrontal areas more often than other brain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an lead to classic symptoms of autism even in previously unaffected individuals who are 14 and 31 year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1986, Gillberg IC 1991, Ghaziuddin et al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halidomide embry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attern of eye-abnormalities (including Crocodile-tears) and limb anomalies in those with autim dates the autism to 20-24 days post-con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5% have classic autism (with or without M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Strömland et al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Psychiatric ”co-morbidity”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0000"/>
                </a:solidFill>
                <a:latin typeface="Arial"/>
              </a:rPr>
              <a:t>ADHD/HKD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often part of autism in early life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Tics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complex similar to stereotypie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OCD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part of the triad?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Anxiety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often strong environmental factor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Depressio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Bipolar disorde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Selective mutis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Most with AS will meet criteria for </a:t>
            </a:r>
            <a:r>
              <a:rPr b="1" lang="sv-SE" sz="2500" spc="-1" strike="noStrike">
                <a:solidFill>
                  <a:srgbClr val="ff0000"/>
                </a:solidFill>
                <a:latin typeface="Arial"/>
              </a:rPr>
              <a:t>personaliy disorder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inappropriate to diagnose?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Eating disorders (including anorexia nervosa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Sleep disorder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Gillberg &amp; Billstedt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Sibs affected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3%: core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Sibs affected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10-20%: spectrum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Identical co-twin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affected in 60-9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Non-identical co-twin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affected in 0-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ll of these findings refer to probands with autism proper, not spectrum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Rutter 2002, Gillberg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First-degree relative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creased rates of affective disorders (including bipolar), social phobia, obsessive-compulsive phenomena, and ”broader phenotype symptom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First-degree relatives also show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possibly increased rates of learning disorders including MR, dyslexia and S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What about ADHD? Tic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Genes on certain chromosomes (e.g. 2, 6, 7, 16, 17, 18, 22, and X) may be important (genome scan studies of sib-pair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linical findings in particular syndromes such as partial tetrasomy 15 (15q), Angelman (15q), tuberous sclerosis (9q, 16p), fragile X (X), Rett syndrome (X), Turner syndrome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Betancur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Neuroligin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genes on X-chromosome mutated in some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Neuroligin genes on other chromosomes, including chromosome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Other neurodevelopmental genes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according to microarray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Arial"/>
              </a:rPr>
              <a:t>Jamain, Bourgeron, Leboyer, Gillberg et al 2003, Laumonnier et al 2004, Chi et al 2004, Larsson, et al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linical finding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: macrocephalus comm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quired brain lesion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implicate fronto-temporal and bilateral dysfunction in core syndrome; right or left dysfunction in spectrum dis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utopsy dat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uggest: amygdala, pons and cerebellu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ayley et al 1997, Bauman 1988, Gillberg &amp; Coleman 2000, Gillberg &amp; deSouza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rainste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amage suggest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alidom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ebius syndrome, CHARGE association, and Goldenhar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tory brainstem respon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rease in/lack of postrotatory nystagm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errant muscle tone and concomitant squ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rnitz &amp; Ritvo 1967, Ornitz 1977, Strömland, Gillberg et al 1994, Gillberg &amp; Steffenburg 1997, Gillberg &amp; Coleman 2000, Rosenhall, Gillberg et al 2003, Johansson et al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Cerebellar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dysfunction suggested b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utopsy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tudi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maging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tud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lationship to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taxi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rchesne 1988, Bauman et al 1992, Bayley et al 1999, Oldfors, Gillberg et al 2000, Weidenheim, Rapin, Gillberg et al 2001, Åhsgren, Gillberg et al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Christopher Gillberg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or of Child and Adolescent Psychia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Göteborg (Queen Silvia´s Hospi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London (St George´s Hospital Medical Schoo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Glasgow (Yorkhill Hospi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Bergen (Haukeland sygeh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rontotempor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rain dysfunction suggested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topsy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ctional imaging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opsychological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bined neuropsychological-neuroimaging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nical pi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1999, Gillberg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uropsychological studies sh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representation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66"/>
                </a:solidFill>
                <a:latin typeface="Arial"/>
              </a:rPr>
              <a:t>Aberrant reading of facial expres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66"/>
                </a:solidFill>
                <a:latin typeface="Arial"/>
              </a:rPr>
              <a:t>Aberrant/unusual fac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-verbal learning disability in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al learning disability in 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ecutive function defic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ntral coherence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(complex) learning defic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erior fact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zonoff 1994, Happé 1994, Nydén et al 2000, Baron-Cohen et al 2002, 2003, Minshew 2003, Frith 2004, Cederlund &amp; Gillberg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 least four biological variants of autis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rly brainstem/cerebellar associated with severe secondary problems (and low-functioning autism with little or no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trimester bitemporal lobe damage (and classic autism with some-considerable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i- or bilateral frontotemporal dysfunction in high-functioning individuals (with Asperger syndrome with good formal expressive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-damage autism (autism with severe- profound MR and some atypica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2003 (Rutter lectur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kely that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veral functional neural loops are  implic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nd that all impinge on neurocognitive/social cognitive functions that are crucially (but possibly not specifically) impaired in autis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1999, Gillberg &amp; Coleman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9966"/>
                </a:solidFill>
                <a:latin typeface="Arial"/>
              </a:rPr>
              <a:t>Psychopharmacology of autism</a:t>
            </a:r>
            <a:endParaRPr b="0" lang="en-US" sz="4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Dopamin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Gillberg et al 198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erotoni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in MR also) (Coleman 197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Noradrenalin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Gillberg et al 198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9966"/>
                </a:solidFill>
                <a:latin typeface="Arial"/>
              </a:rPr>
              <a:t>Neuroligins</a:t>
            </a:r>
            <a:r>
              <a:rPr b="0" lang="en-GB" sz="1600" spc="-1" strike="noStrike">
                <a:solidFill>
                  <a:srgbClr val="ff9966"/>
                </a:solidFill>
                <a:latin typeface="Arial"/>
              </a:rPr>
              <a:t> (Jamain et al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9933"/>
                </a:solidFill>
                <a:latin typeface="Arial"/>
              </a:rPr>
              <a:t>GFA-protein</a:t>
            </a:r>
            <a:r>
              <a:rPr b="0" lang="en-GB" sz="1600" spc="-1" strike="noStrike">
                <a:solidFill>
                  <a:srgbClr val="ff9933"/>
                </a:solidFill>
                <a:latin typeface="Arial"/>
              </a:rPr>
              <a:t> (Ahlsén et al 199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Gangliosid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Nordin et al 199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ndorphin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Gillberg et al 198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Glycine, GABA, Ach, glutamate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mmune system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Plioplys 198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9966"/>
                </a:solidFill>
                <a:latin typeface="Arial"/>
              </a:rPr>
              <a:t>Clinical psychopharmacology of autism</a:t>
            </a:r>
            <a:endParaRPr b="0" lang="en-US" sz="33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Only dopamine antagonists (</a:t>
            </a:r>
            <a:r>
              <a:rPr b="0" lang="sv-SE" sz="2600" spc="-1" strike="noStrike">
                <a:solidFill>
                  <a:srgbClr val="ff0000"/>
                </a:solidFill>
                <a:latin typeface="Arial"/>
              </a:rPr>
              <a:t>old and new neuroleptic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) have been shown to affect some core symptoms of autism in young children; however, important side-effects, including atypical weight-gain with risperidone; these agents are particularly helpful for irritable-disruptive and self-injurious behaviou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9933"/>
                </a:solidFill>
                <a:latin typeface="Arial"/>
              </a:rPr>
              <a:t>SRI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severe OCS and anxie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00"/>
                </a:solidFill>
                <a:latin typeface="Arial"/>
              </a:rPr>
              <a:t>Stimulant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severe ADH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00"/>
                </a:solidFill>
                <a:latin typeface="Arial"/>
              </a:rPr>
              <a:t>Antiepileptic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epilepsy (and mood swings?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Peptides?? And peptide-targeted drug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Campbell et al 1976, van Buitelaar 2000, McCracken et al 2002, Lindsay &amp; Aman 2003, Martin et al 2004, McDougle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The pathogenetic chai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Genetic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environmental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insul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Damage or </a:t>
            </a: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neurochemical dysfun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Neurocognitive and social cognitive functions restricted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(procedural learning, face processing, metarepresentations, central coherence, executive function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The ”syndrome” (or, sometimes, the ”arbitrary” symptom constellation) of autis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The dyad (not triad) of social/communication impairment plus the monad of restricted behaviour pattern as a frequent concomitant? or three monads with frequent co-existenc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Psychosocial interac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associated with social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associated with psychosocial disadvantage; however, “pseudoautism” described in children exposed to extreme psychosocial depr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ly restricted major improvement in good psychoeducational se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migration links? Indirect link with genetic facto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Psychosocial interac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normal child triggers unus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parents have autism spectrum disorders themselves - not necessarily a major problem in all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, violent behaviours, self-injury and hyperactivity reduced in “autism-friendly”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ll people are individuals first and foremost; at least as true in autism as in “neurotypicality”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ople WITH autism; not autistic peop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ge attit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pect for people in the autism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changing environment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ster adaptive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utism spectrum disorder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tic concepts and clinical 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revalence/incidence/epidemi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cquired brain lesions and ”comorbid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Where in the brain is autis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sychosocial inte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known underlying disorder: treat this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and be aware of syndrome-specific symptoms such as gaze avoidance in fragile 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epilepsy: treat this (however, there are major caveats he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hearing, vision, or motor impaired: treat th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important psychiatric co-existing problems (SIB, ADHD, OCS, bipolar): threat th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sychoeducational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mptomatic biological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medication for many; autism “per se” not an agreed target for medication t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ypical neuroleptics (violence, self-injury, sleep problems, hyperactiv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iepileptics (seizures, epileptogenic discharge?, bipol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SRIs (OCS, depre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mulants (ADH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thium (and other drugs) for s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med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ets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ysical exercise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nsory awareness” environment (reduce noise, certain sounds, smell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utism-friendly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crete, visual (not always), straight-for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nimize ambiguities and symbolic interpre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or in low- and middle-functioning cases with AD, but quality of life very variable even in cases with “poor”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tter, but not always good in Asperger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tter with early diagnos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llberg 1991, Nordin &amp; Gillberg 1996, Billstedt et al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nguage at age 3 = likely later Asperger phenotyp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 language at age 7 = likely never much spoken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jority probably live to be old, but increased mortality in subgroup (with medical disorders only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ic problems remain, albeit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gh rate of “secondary” psychiatric problems (personality disorder, affective, social, catatonia)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80000"/>
              </a:lnSpc>
              <a:spcBef>
                <a:spcPts val="2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zatmari 2003, Billstedt et al 2004, Cederlund et al 200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fic knowledge (including genetic and neurophysiological) and treatment for sub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diagnostic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mptomatic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sychoeducation/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ceptance and attitude chang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eople with autis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not autists or autistic people! Cannot be stressed en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pect for people with functional disabiliti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Litera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illberg C &amp; Coleman M (2000) The Biology of the Autistic Syndromes, Third Edition. Cambridge University 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illberg C (2002) A Guide to Asperger Syndrome. Cambridge University 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300 PubMed scientific papers at www.ncbi.nlm.nih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Diagnostic concepts and clinical presenta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At least </a:t>
            </a: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fou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2200" spc="-1" strike="noStrike">
                <a:solidFill>
                  <a:srgbClr val="ff9966"/>
                </a:solidFill>
                <a:latin typeface="Arial"/>
              </a:rPr>
              <a:t>clinical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presentations of autism (autism/autistic spectrum disorder) plus ”one” non-clinic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1. Autistic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Kanner syndrome) which can be subdivided into ”low-functioning” (”Wing´s triad with severe learning disability/MR”) and ”relatively high-functioning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2. Asperger’s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Asperger syndrom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3. Childhood disintegrative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Heller syndrome) - different from ”late onset autism”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4. PDD NOS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atypical autism, other autistic-like condition, other autism spectrum disorder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(5. The </a:t>
            </a: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broader autism phenotype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) (lesser variant, shadow syndrome, autistic featutre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9966"/>
                </a:solidFill>
                <a:latin typeface="Arial"/>
              </a:rPr>
              <a:t>Prevalence, incidence/epidemiology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Prevalence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much higher than believed in the past: ASD in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% of population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AD in 0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many studies of prevalence, very few of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inc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no good evidence that overall rates have soa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but subgroup variation likely (e.g. ”premature autism” has gone up, ”rubella autism” dow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ASD was always quite common? - 0.7% already in the 1970s in Sw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</a:rPr>
              <a:t>Gillberg 1983, Gillberg &amp; Wing 1999, Fombonne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9966"/>
                </a:solidFill>
                <a:latin typeface="Arial"/>
              </a:rPr>
              <a:t>Prevalence, incidence/epidemiology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ssociated with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ental retardation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5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80% in autistic disorder/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ssociated with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epilepsy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5-10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35% in 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edical disorder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0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25% in 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ewed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ale:female ratio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2-4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High rate of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visual, hearing and motor impairments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(including at bir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Sibling rate raised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; identical twin rate much raised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in classic autism</a:t>
            </a:r>
            <a:r>
              <a:rPr b="0" lang="sv-SE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00"/>
                </a:solidFill>
                <a:latin typeface="Arial"/>
              </a:rPr>
              <a:t>Rutter 1971, Wing 1981, Gillberg 1983, Gillberg &amp; Coleman 1996, Gillberg 1999, Fombonne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9966"/>
                </a:solidFill>
                <a:latin typeface="Arial"/>
              </a:rPr>
              <a:t>”</a:t>
            </a:r>
            <a:r>
              <a:rPr b="0" lang="sv-SE" sz="3200" spc="-1" strike="noStrike">
                <a:solidFill>
                  <a:srgbClr val="ff9966"/>
                </a:solidFill>
                <a:latin typeface="Arial"/>
              </a:rPr>
              <a:t>Acquired” brain lesions and co-existing disorders (”medical co-morbidity”)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Tuberous sclerosis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Fragile X syndrome, Parti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trasomy 15, Down syndrome, XYY, XO, Hypomelanosis of Ito, Rett complex variants, Angelman syndrome, Williams syndrome, CHARGE association, Smith-Magenis syndrome, Smith-Lemli-Opitz syndrome, CATCH 22, Fetal alcohol syndrome, Retinopathy of prematurity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Thalidomide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embryopathy, Valproic syndrome, Moebiu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ndrome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Silver-Russell syndrome, (Landau-Kleffner syndrome), </a:t>
            </a: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Herpes and rubell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&amp; Coleman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Known medical disorder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25% in autistic disorder ”proper” (unselected samples) and 2-10% in Asperger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se are either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genetic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their own right, affect autism susceptibility gene areas, or cause brain lesions through direct/indirect in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High rate of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re- and perinatal risk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&amp; Coleman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uberous sclerosis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3-9% of all autism cases, more common in those with epileps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chromosome 16p involved in one variant (autism susceptibility genetic area? ADHD susceptibility genetic ar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dopamine genes on chromosome 9 affected in other TS vari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utism likely if TS lesions in temporofrontal regions and if there are many le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et al 1996, Bolton et al 199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4:57:40Z</dcterms:created>
  <dc:creator>Christopher Gillberg</dc:creator>
  <dc:description/>
  <dc:language>en-US</dc:language>
  <cp:lastModifiedBy>NEC Computers International</cp:lastModifiedBy>
  <dcterms:modified xsi:type="dcterms:W3CDTF">2004-10-01T21:57:20Z</dcterms:modified>
  <cp:revision>22</cp:revision>
  <dc:subject/>
  <dc:title>Neurobiology of aut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44369458</vt:r8>
  </property>
  <property fmtid="{D5CDD505-2E9C-101B-9397-08002B2CF9AE}" pid="3" name="_AuthorEmail">
    <vt:lpwstr>jimrox@netspeed.com.au</vt:lpwstr>
  </property>
  <property fmtid="{D5CDD505-2E9C-101B-9397-08002B2CF9AE}" pid="4" name="_AuthorEmailDisplayName">
    <vt:lpwstr>Jim &amp; Roxanne Coghlan</vt:lpwstr>
  </property>
  <property fmtid="{D5CDD505-2E9C-101B-9397-08002B2CF9AE}" pid="5" name="_EmailSubject">
    <vt:lpwstr>Prof Gillberg Presentation</vt:lpwstr>
  </property>
</Properties>
</file>